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F22-288E-4C45-B078-37346727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30D-7F78-4897-BF98-52A5A62D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71C-D346-4121-9982-9F62161E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FBD3-C8B4-49B4-98FC-C866722E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128C-A62A-4E44-B118-596AE098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1DC-448D-4330-A2B8-AC413819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BEC-FF31-4EFD-9F19-1BB16DC4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B2A6-DBF7-4755-BDF0-460ADC06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EC7C-8520-4970-BE5E-71DF83DF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3462-66E7-4154-A79B-D9AE41E7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4167-3DB4-4D9B-9D36-284856CA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723-D9B4-4EC1-9B28-9812F084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BA42-4D09-4481-A75F-C3081CA6C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s valu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: 1aprilie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CA NATION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1628640"/>
          <a:ext cx="8207280" cy="4525920"/>
        </p:xfrm>
        <a:graphic>
          <a:graphicData uri="http://schemas.openxmlformats.org/drawingml/2006/table">
            <a:tbl>
              <a:tblPr/>
              <a:tblGrid>
                <a:gridCol w="2736720"/>
                <a:gridCol w="2570400"/>
                <a:gridCol w="2900160"/>
              </a:tblGrid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z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mpar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ra sterl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– curs valu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8360" y="1635120"/>
          <a:ext cx="819612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35120"/>
                    <a:ext cx="819612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20:03:49Z</dcterms:created>
  <dc:creator>AS</dc:creator>
  <dc:description/>
  <dc:language>en-US</dc:language>
  <cp:lastModifiedBy>AS</cp:lastModifiedBy>
  <dcterms:modified xsi:type="dcterms:W3CDTF">2010-01-08T18:20:52Z</dcterms:modified>
  <cp:revision>4</cp:revision>
  <dc:subject/>
  <dc:title>Curs valutar</dc:title>
</cp:coreProperties>
</file>